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362-E5D6-43C8-A234-C218A7EF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3E6-C217-4D92-A13A-F6FFF6D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56A1-4E1D-4B5F-8C04-0451ED0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2E157-D046-4482-B78F-EED51380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3A2DB-CBC2-43D2-889B-CCA1C45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7E96A-4657-41B4-805A-FF47E69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A6E85-1C8A-444F-9CBD-E948F30B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3846-9D23-44CA-BF85-1B9B1E0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B8C8B-1926-424D-BABF-652429A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C9336-5EA3-4150-9D7B-A8374270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11766-E9CB-4109-9272-8898C519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F72D3-A566-428A-8DCC-899C4A1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E3D-2D58-4A4C-9C94-AAAE3E9D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91BF5-BE58-4970-A5A1-60948836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10926-FA2E-40A5-8BF0-5E84880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493F4-8CE2-4B40-A5A9-67D1EF1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4FA4B-FB96-454C-BFD7-81D066B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22D64-08DA-460D-A072-3A118FC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C9CE-AB92-4111-B467-A9199F4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D8020-0BD2-426D-A3C7-D1145E1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4159-3B6F-4595-B3E2-18F95BA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9944-822F-4F99-B756-B1648B1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8DDD-AA54-4EC5-87DB-19471FEC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AED-58D8-477D-96B2-384DB684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3FA32-8F07-404C-950E-6EBD0F0B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3CBB9-3B3E-413A-AAAF-5081F33D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F7D53-4628-40AA-ABEE-4E90896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4AAE-3FB6-4FD1-8C61-6F9345A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7ACAB-7278-404E-9385-7B70425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7CE61-1D56-4626-9CE4-B3B27B0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636F-0E23-4D32-9E43-D21FC4F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23DAF-EE82-4697-B07E-69FDA38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C5071-8E10-4ECF-B0EC-BF2401D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90D01-26BA-45EF-8763-2AA417C3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9EA-CAD2-4E98-A9E0-214FFFAF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AC05-A2FD-4817-86CB-B0C9DC2B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8EC60-8580-4A3C-B110-ED9926F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201BE-E93B-4675-AB66-CA65DBF6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93B3A-AA13-45FB-9698-1444C24A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5AB1A-5A0B-4A6D-A470-BC920ACB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49D3E-FC91-4749-8D1F-3BCAEE62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7A77C-5359-4A97-8666-3EEDFBA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936FA-9291-43CD-A889-4B48D93F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745E8-F35D-4A25-8299-7FFD32F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9EDC2-39DF-45D6-AFEC-6ED256F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F5A7-5F21-42DE-9CA5-6FB9478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94B7C-6237-4A3C-B2D3-76CCA40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4A1F5-A2C6-4FC9-819B-7A88894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EADC-D894-489A-90E5-4FA3A753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F52E4-EEE8-47CD-9D96-AAAC1FA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7997C-B9BF-4D55-81C6-87FF7A2A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0DD-18E1-488B-B67E-92CDC7B4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6151-D4C4-451F-A05B-793DF71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A5F1-9C88-4C6C-BE61-FFB968DC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1AA8-C797-4CF4-80E6-07D2607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944A-E740-4C8F-8989-5FCCB17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86A-EBD4-4E31-9350-F4B517C5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C17-C1AC-499E-AC4F-886F9C5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79F-3A1F-438C-A0D1-0AC9514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8231-0853-411A-84BB-65050B27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4743-C232-4350-8B51-5483E7D6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2247-1617-4812-8965-5E338DC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BEC6-5922-4479-86AF-F632DD8F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145F-91BE-409F-888C-79BB27D8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177D-65F1-44DB-A08F-05D01D83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6895-C0AB-4D16-BB2E-8A6927B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9DCB-6D5B-4E8A-B5C6-7C34723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565-A92C-4C82-8651-952D612F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A6BD-162E-4402-8F80-AB912FE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F867-D4AA-432C-9E48-C02521A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B7FA-4EFF-46E7-93B3-38DEF8E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CEDA-737D-4772-A1B5-8B84142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6A66-BEB5-4CBC-ABA3-4432EE3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F398-B584-40A2-86CE-BB1AD919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1247-8C84-4D82-AE2C-0A747D4E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9D28-0E6E-4074-92F0-4BF1D1E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0E31-B227-4612-B35E-E4767BB9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9165-4FE7-488F-A4DE-0BD8B186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C15-233E-4B05-91DC-CAE4674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B41D-A6EB-4281-BB76-C07F761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8EE7-FBDC-4C4C-89D7-29C0E83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A246-3DDA-4B55-8DDA-F7F90811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C107-61A4-4D3A-8395-DCA4FFF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489B-85C2-411C-9664-FE953D5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7EC1-EC0A-45EF-BB1A-1E634CD0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FBD9-9FA2-44EC-86E4-688F69B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520A-D54A-4135-913A-6F79F32C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F0D4-BE2A-4EF3-88CA-26F0AAB3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6FE9-B10F-4FCB-860B-916F4BFD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616-2BB5-4822-A2F2-6626DED3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9AA5-80E8-4294-B604-1ED687F9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4E8B-1BC3-41AE-AD24-A51241FB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2836-C843-4028-8736-F4A60D20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695D-437E-4634-BAA8-BC6DA42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9EFD-784F-4FC3-99EF-EF1C632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4603-2C87-48FE-A08B-EE30BCC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0120-6ACD-454D-A20D-AC69C8A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CB88-0CDA-44F2-8F7E-5243FDC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C2CA4-5875-47D4-B966-439E80D9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758C-583A-43EF-9636-7082D28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9E7-FC05-4630-A505-A9F5664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99E54-84B1-4471-A1FB-55CB1E6C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4B8D-B993-4CBA-BAA7-C41F5D57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C563-6B27-4C30-BE19-D996336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8CC4-D557-4CE5-9AD0-48AD8210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45E1-7334-4B29-8570-348E0C9B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4F94-B2D8-40FA-9C36-54A87C6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1041-EF92-455C-9045-A026265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3A5F-A1F6-4DF6-A1F7-7BDA226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3FA2-62BE-4994-9C8F-362049B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40A20-D973-4F56-824F-50984E7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F65-D71B-4772-9303-15BBFFA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D7ED-8950-48E6-AAE8-2BB4768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C4BB-F37F-49FF-8191-DBACF607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5881-35AF-41AD-9047-82D7D105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D36F-978F-4523-96BD-7EDB1536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61BE-925E-4CC2-9125-AD33CD1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2847D-635F-4640-BA88-3CD1F16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5F8E8-754D-4590-9064-64F2AA1A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72D9-6801-4F14-891E-78866CA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0A31-F52D-41B2-81BB-EBDD1D6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E767-F63C-46DE-AB48-6296B8C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968-7456-4B43-BBE8-FF6FB92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6F7B-A111-4396-864C-0C351E5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19C9-A0DD-4C11-A06B-FEA5E32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35DE0-EFCB-4CD9-B000-A5C3B4E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AE807-2873-4EA0-A9C5-D395EF71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BB9D-AF34-443A-9E77-5D9E67A2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07E4-1394-4425-8A47-79770D1B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3669-E6DE-49BB-8623-6C2B478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4F32-E474-481A-AEF0-C9E4D1F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EB5E-A413-4AE4-AC00-7980BD01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F27E-AEFB-4AE0-9FB9-41B94B2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671-60CC-4298-9264-CA69543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1930-7CF7-465A-B730-FAA6D535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E4EB7-F388-46E2-AD92-BE33738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16F6-27CA-4388-9718-EE57410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BCFED-DBC9-4118-B99E-8402766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81050-EC4C-4B0F-A9D4-BEF46DA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8EF8-4754-47C2-B614-461730F6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D0737-11C6-41E6-88AC-168678FE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069C-FF3A-4F6C-B2B0-A124D064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F9C56-BD6C-4EA9-B28C-C23DA5F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08193-A16A-4D31-86F5-803DBED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0D00-9F56-42EB-8CA7-12265CCD0C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6B8-054E-4E4A-914C-01A28C4515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584-C0EF-41C7-B1D5-E3D0955838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101-E445-4AE6-9D5D-645B13A445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AF2-B639-4A3C-9475-4FFC5818BE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FF7-F32B-4A2B-B79F-B12DF09538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A08E-28B2-4CBE-9581-6E6F48B227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543-99CB-4A73-BB14-208DCEFA08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F52-F3ED-46A4-9E6F-3CA6748473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FDF-6BEF-43E6-81E6-CDF433BDCF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6BC0-3422-40C7-B2E9-04572A42B2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46E4-4E5E-4E69-A5F1-F5AF366648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6 Príď k nám, Duch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k nám, Duch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bies výši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ieť sám v nás plam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vojej moci, slávne č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ŕdc ľudských úhor prem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iatbe s láskou rozsieva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rody dopraj požehna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do vini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 hojnosť vlahy, vzrastu pr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áskou zohrej každé srd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cirkev svoju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celý svet to vidieť môž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y nás vedieš, svätý Bož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k nám a veď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u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jednoť k práci Boží ľu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vetlo naše jasne svieti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dozrie pole, vydá klas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stane žatva, radosť spás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8:00:27Z</dcterms:modified>
  <cp:revision>16</cp:revision>
  <dc:subject/>
  <dc:title>Je veľký náš Pán, on slávy je Kráľ Nech do všetkých strán  spev vrúcnych znie chvál.</dc:title>
</cp:coreProperties>
</file>